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914400" y="746280"/>
          <a:ext cx="8039160" cy="53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746280"/>
                    <a:ext cx="8039160" cy="53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ABBVAS-Dev-Logo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2895480" cy="5018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52280" y="228600"/>
            <a:ext cx="533520" cy="5638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76720" y="6172200"/>
            <a:ext cx="563868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ito-Seal%20logo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9436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Use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to-Seal P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ch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moral Diagnostic of 4 and 5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Femoral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110040" y="1924200"/>
            <a:ext cx="2985480" cy="3943080"/>
            <a:chOff x="3110040" y="1924200"/>
            <a:chExt cx="2985480" cy="3943080"/>
          </a:xfrm>
        </p:grpSpPr>
        <p:sp>
          <p:nvSpPr>
            <p:cNvPr id="48" name=""/>
            <p:cNvSpPr/>
            <p:nvPr/>
          </p:nvSpPr>
          <p:spPr>
            <a:xfrm>
              <a:off x="3110040" y="3857760"/>
              <a:ext cx="1066320" cy="304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28840" y="3143160"/>
              <a:ext cx="10663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ArteryArmAnat" descr=""/>
            <p:cNvPicPr/>
            <p:nvPr/>
          </p:nvPicPr>
          <p:blipFill>
            <a:blip r:embed="rId1"/>
            <a:stretch/>
          </p:blipFill>
          <p:spPr>
            <a:xfrm>
              <a:off x="3238200" y="1924200"/>
              <a:ext cx="2857320" cy="39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8136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a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aitopunct7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mora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%2008%20CFA" descr=""/>
          <p:cNvPicPr/>
          <p:nvPr/>
        </p:nvPicPr>
        <p:blipFill>
          <a:blip r:embed="rId1"/>
          <a:srcRect l="0" t="12685" r="7269" b="5002"/>
          <a:stretch/>
        </p:blipFill>
        <p:spPr>
          <a:xfrm>
            <a:off x="3048120" y="1676520"/>
            <a:ext cx="29890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4571640" y="4267080"/>
            <a:ext cx="2895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3657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agnostic 4 or 5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bott Laboratories</cp:lastModifiedBy>
  <dcterms:modified xsi:type="dcterms:W3CDTF">2002-10-29T07:51:41Z</dcterms:modified>
  <cp:revision>12</cp:revision>
  <dc:subject/>
  <dc:title>PowerPoint Presentation</dc:title>
</cp:coreProperties>
</file>